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AC5-2BC5-494E-80A5-BC01A236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403-D65F-4F9A-895D-1980B1D8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F15-58E1-4EF8-A58A-E05C6C6C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798-0736-441B-A1CC-F09596CC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AA3E-6026-4F67-AE73-6BD5A2B5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C03D-4962-4EA7-8D78-5EF7D309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C922-3991-413B-96D8-306DEBCC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AFE-ACA0-4FAF-BE05-842C14A3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F295-FAE6-4198-9CAE-77EAAD17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F8ED-2208-44A3-B150-9CDEB7A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592DC-E459-4FB6-A38F-ACF492E9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954-94E1-40F9-A264-5854FCE6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2C44-A24C-4B17-BCCA-E5CEF33C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EA4C-BD7E-4B76-8FE3-6A29050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E6C7-2D32-461C-A89B-1F76346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27E-CEC9-4AC6-89A2-0F0AC8CF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0854-CFF4-40B1-BA43-5C1AAF45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3EE-3B66-4DA2-8A04-B250E29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BFE-14F2-4707-86B9-6E829AD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10D-242C-4560-B97F-1D9480C3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0E8-B432-42C2-837D-EFBA4CA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072-2115-4A40-BA64-11B1090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C3D-7BF7-49B4-88DC-16043D1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591-1331-4291-A60A-A7BF56C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4E0-8AF1-4FBB-81B4-007988BB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2AB2-55EE-4BD5-B138-04A95963184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4/Rachel-Carson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21932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0" y="251460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здравствена заштита</a:t>
            </a: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д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762120" y="54864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T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4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 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тисан 1874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ектицидна својства откривена 1939.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1940. до 1960.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шћен је за сузбијање маларије и тифу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цима СЗ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ва акција је спасила око 25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 је забрањен због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ицаја на животну среди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iStock-898449496-compressor-e1519401819245.jpg"/>
          <p:cNvPicPr/>
          <p:nvPr/>
        </p:nvPicPr>
        <p:blipFill>
          <a:blip r:embed="rId1"/>
          <a:stretch/>
        </p:blipFill>
        <p:spPr>
          <a:xfrm>
            <a:off x="914400" y="4572000"/>
            <a:ext cx="76201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материја (полута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Загађујућа материја (полутант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дефинише као супстанца која се јавља у животној средини и делимично може бити последица људске активности и изазива штетне ефекте по живе органи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име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асифик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гађивач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ирод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нтропоген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ОЈ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ас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еч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чврс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хемијск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ирод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RS" sz="15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рганс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ВОЈСТВ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створљив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љу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мас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нерастворљив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азблаже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стојанос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реактивност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упстанца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ЕКТОРИ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аздух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лут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земљиш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родук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сагоревања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горив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устријск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мунал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отпац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љопривред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Times New Roman"/>
              </a:rPr>
              <a:t>ЕФЕКТИМ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ирект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ндиректн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токсикант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кут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хроничног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корозивни</a:t>
            </a: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500" spc="-1" strike="noStrike">
                <a:solidFill>
                  <a:srgbClr val="000000"/>
                </a:solidFill>
                <a:latin typeface="Times New Roman"/>
              </a:rPr>
              <a:t>агенс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8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 у ланцу ис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Content Placeholder 3" descr="Capture.PNG"/>
          <p:cNvPicPr/>
          <p:nvPr/>
        </p:nvPicPr>
        <p:blipFill>
          <a:blip r:embed="rId1"/>
          <a:stretch/>
        </p:blipFill>
        <p:spPr>
          <a:xfrm>
            <a:off x="1633680" y="1633680"/>
            <a:ext cx="5876640" cy="4459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4114800" y="1676520"/>
            <a:ext cx="83808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038480" y="243828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3809880" y="3276720"/>
            <a:ext cx="137160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038480" y="4114800"/>
            <a:ext cx="990720" cy="398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809880" y="4876920"/>
            <a:ext cx="1371600" cy="1008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о    земљиш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286000" y="4876920"/>
            <a:ext cx="114300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 вазду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486400" y="4876920"/>
            <a:ext cx="121932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на   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лоровани бифени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CB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олихлоровани бифенили (PCB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рганска једињења која садрже супституисане хлорове атоме. Они се не производе већ се стварају при производњи пластичних материјала, растварача, пестицид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ом 70-их година утврђено да су токсични и да оствару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таген ефека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бог добре растворљивости у мастима олакшана је њихова акумулациј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а на уређаји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адрже PCB материјал, особађају се паре полихлорованих дибензодиоксина које су токсичне. Тако су забележене еколошке катастрофе 1977. године (Канада), 1985. године (Францус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цуривањем уљ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и PCB има катастрофалне последице јер се абсорбује у земљишту и и укључује у ланац исхране. Такав случај забележен је у Јапану 1968. годи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вод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1143000"/>
            <a:ext cx="48769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ње нафте из танке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.2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а тона годиш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џен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ол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е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не вод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 и радионукле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материје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цид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а штеточина и вектора болест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Untitled1-horz.jpg"/>
          <p:cNvPicPr/>
          <p:nvPr/>
        </p:nvPicPr>
        <p:blipFill>
          <a:blip r:embed="rId1"/>
          <a:stretch/>
        </p:blipFill>
        <p:spPr>
          <a:xfrm>
            <a:off x="5410080" y="2438280"/>
            <a:ext cx="358164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е и цијанотоксин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140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Цијанобактерије или 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одрозелен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</a:t>
            </a:r>
            <a:r>
              <a:rPr b="1" i="1" lang="en-U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алг</a:t>
            </a:r>
            <a:r>
              <a:rPr b="1" i="1" lang="sr-RS" sz="2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ју веома разнолику групу прокариотских организама чија се старост процењује на отприлике 2,3 до 2,9 милијарди година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ун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штачк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ерал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ђубрива и детерџе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доводе до повећања концентрација соли фосфора и азота што узрокуј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рм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вој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бактерија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. “цветањ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”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последица цветања је производња високо активних токсичних метаболита или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algae.jpg"/>
          <p:cNvPicPr/>
          <p:nvPr/>
        </p:nvPicPr>
        <p:blipFill>
          <a:blip r:embed="rId1"/>
          <a:stretch/>
        </p:blipFill>
        <p:spPr>
          <a:xfrm>
            <a:off x="5638680" y="990720"/>
            <a:ext cx="33530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цијанотокс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анотоксини су према начину деловања односно  према типу токсичности који изазивају код животиња и  људи,  подељени у 4  клас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олисахаридни ендотоксин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забележени случај тровања цијанобак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8. године у Аустрали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вешка и Фин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штавање воденог екосисте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бројности бактерија, протозоа, цр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бројности риб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овидности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а температура вод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дизентерија, малариј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 количина органских материја у во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 И ХРОНИЧНА ТРОВАЊА ИЗ ЖИВОТНЕ 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 ТЕШКИМ МЕТАЛИМА  (ОЛОВО, ЖИВА, БАКА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мерно загађењ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дент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 и вод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ни удес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но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омаћинства и индустријс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чврстог отпада као ђубри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ција из ваздуха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 и прашина и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ња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а и снег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носи река и мор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 пестицид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земљиш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ФИЗИЧК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ЗМЕНЕ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</a:t>
            </a:r>
            <a:r>
              <a:rPr b="1" lang="hr-HR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ЕМЉ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бан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дњ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стру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ехничк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о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лоатац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д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ских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ХЕМИЈСКО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ГАЂ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ива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III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–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ПОЉОПРИВРЕДА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</a:t>
            </a:r>
            <a:r>
              <a:rPr b="1" lang="hr-HR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ШУМАР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шт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опривредн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х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ционал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ава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ивач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ск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иња</a:t>
            </a:r>
            <a:r>
              <a:rPr b="1" lang="hr-HR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ертификација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земљиш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земљиш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ација тешких метала, пестици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о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ење пустиња (дезертификациј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прин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 физички изглед (депониј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драва х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загађења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3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уналног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изведе око 3,5 милиона m³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алног отпада (0,65–0,85 kg/становник/дан)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ој земљ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оји 170 званичних депонија,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ј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тотина дивљих депон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57200" y="419112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није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устријско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рбији се годишње продукује и депонује 6 -7 милиона тона пепел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није пепела и шљаке у нашој земљи заузимају 1.800 хектар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ног земљиш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vinca-deponija-djubre-smece-mondo-goran-sivacki-33.jpg"/>
          <p:cNvPicPr/>
          <p:nvPr/>
        </p:nvPicPr>
        <p:blipFill>
          <a:blip r:embed="rId1"/>
          <a:stretch/>
        </p:blipFill>
        <p:spPr>
          <a:xfrm>
            <a:off x="5943600" y="1371600"/>
            <a:ext cx="3048120" cy="281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Image22.jpg"/>
          <p:cNvPicPr/>
          <p:nvPr/>
        </p:nvPicPr>
        <p:blipFill>
          <a:blip r:embed="rId2"/>
          <a:stretch/>
        </p:blipFill>
        <p:spPr>
          <a:xfrm>
            <a:off x="5943600" y="44956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а представља танак слој ваздуха (гасова) који окружује планету Земљ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с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ћин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енергет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е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компон.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о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b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онс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браћ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sr-RS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Фотохемијски смог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тање које настаје када примарне загађујуће супстанце (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зотни оксид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арљива органска једињењ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стала сагоревањем фосилних горива) интерагују под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јством сунчеве светлос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ући смешу од опасних хемијских супстанци познатих као секундарне загађујуће супстанце од којих је најпознати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N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перокси-ацетил-нитр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381560" cy="3009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038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228600" y="1143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хемијски смог доводи до надражаја слузокоже дисајних органа, очију, и нарушавања вегет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 атмосфе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хемијско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бил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6. </a:t>
            </a:r>
            <a:r>
              <a:rPr b="0" i="1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ј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ин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ор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ширил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о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7" descr="cernobyl_radioactive_cloud.gif"/>
          <p:cNvPicPr/>
          <p:nvPr/>
        </p:nvPicPr>
        <p:blipFill>
          <a:blip r:embed="rId1"/>
          <a:stretch/>
        </p:blipFill>
        <p:spPr>
          <a:xfrm>
            <a:off x="4876920" y="1600200"/>
            <a:ext cx="3917880" cy="41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загађења ваздух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ен хемијски састав вазду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озонског омотач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селе киш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стаклене баш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шење шу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 (астма, бронхитис,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ућ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ласк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 коже (перкутано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пираторним путем (инхалација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естивним путем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гестија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Еко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функционална јединица у природи, која укључује организме и њихову животну средину. Животна средина је сачињена од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родних хемијских супстанц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штачк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мијских супстанц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е великог броја хемијских материја у воду,ваздух и земљиште у количинама које природа не може да превазиђе механизмима ауторегулације довело је до негативних утицаја на људско здравље и живот, флору и фау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921b650a76d7a32dbe94a0aaa0afd20b.jpg"/>
          <p:cNvPicPr/>
          <p:nvPr/>
        </p:nvPicPr>
        <p:blipFill>
          <a:blip r:embed="rId1"/>
          <a:stretch/>
        </p:blipFill>
        <p:spPr>
          <a:xfrm>
            <a:off x="5029200" y="1447920"/>
            <a:ext cx="4114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кутани унос отров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 да продре кроз кожу, онда њена токсичност зависи од степена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пциј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много брже кроз оштећену кож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се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а супстанц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овати кроз кожу зависи од њене растворљивости у мастима (липофилне супстанце). Хем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могу да се растворе у мастима много брже пролазе кроз кожу од оних растворних у вод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нос отров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им путе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ке супстанце 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 ситних честица (прашина) или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у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ар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традиционалних аерозагађивача (сумпор диоксид, оксиди азота, угљен моноксид, суспендована честична материја и олово) директно утичe на респираторни и кардиоваскуларни сист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гестивни пут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а у организам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ом се уносе загађујуће 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су присутне у храни и пићу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при томе с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бују преко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зокож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интестиналног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 загађујуће супстанц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Content Placeholder 4" descr=""/>
          <p:cNvPicPr/>
          <p:nvPr/>
        </p:nvPicPr>
        <p:blipFill>
          <a:blip r:embed="rId1"/>
          <a:stretch/>
        </p:blipFill>
        <p:spPr>
          <a:xfrm>
            <a:off x="401760" y="1517760"/>
            <a:ext cx="8304120" cy="4992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533520" y="609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ој мери ће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а супстанц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 токсична зависи од следећих проце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о дејство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рганизам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Content Placeholder 5" descr=""/>
          <p:cNvPicPr/>
          <p:nvPr/>
        </p:nvPicPr>
        <p:blipFill>
          <a:blip r:embed="rId1"/>
          <a:stretch/>
        </p:blipFill>
        <p:spPr>
          <a:xfrm>
            <a:off x="390600" y="1584360"/>
            <a:ext cx="336384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јн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јство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ђујуће 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 да надражују очи, горње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њ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е путев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3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HCHO (формалдехид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ови оксиди непосредно после продирања у организам за кратко време проузрокују оштећења плућ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3" descr="f16358df4d813ae64eb6f99bb7ecaff7.jpg"/>
          <p:cNvPicPr/>
          <p:nvPr/>
        </p:nvPicPr>
        <p:blipFill>
          <a:blip r:embed="rId1"/>
          <a:stretch/>
        </p:blipFill>
        <p:spPr>
          <a:xfrm>
            <a:off x="1143000" y="2209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ген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а, азбестн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а могу да проузрокуј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озу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ргијск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ментарни алерге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оалерг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 на кож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, базе, растварачи,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стријски дермат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иоци животне средине који изазивају мутације се зову мутагени.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тације су хемијске промене гена, њиховог броја и редоследа у хромозомима и преносе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едеће генерациј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е дејства појединих хемијских супстанци су а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алије у развоју плод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тогено дејство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варуј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леков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нцерогено дејств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ерогени агенс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дацима Међународне агенције за истраживање рака (</a:t>
            </a:r>
            <a:r>
              <a:rPr b="1" lang="en-US" sz="3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IАRC - The International Agency for Research оn Canc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евидентирано је 783 канцерог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органски 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 метали и њихова једињењ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нуклид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и</a:t>
            </a:r>
            <a:r>
              <a:rPr b="0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нцерогени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ични угљоводониц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рни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угљоводон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о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ирањем отрова у организам долази до тровања (интоксикациј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 зависи од експозиције и апсорбоване количине отров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оже би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трајано уношење већих количина отро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кут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т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трајно понављано уношење отрова, углавном у мањим количинама - на радном месту (професионална тровања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токсикологиј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млада научна дисциплина која проучава утицај различитих хемијских супстанци на човекову околину. Човекову околину представвљају биљке и животиње настањене у води и земљиш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Untitled8.png"/>
          <p:cNvPicPr/>
          <p:nvPr/>
        </p:nvPicPr>
        <p:blipFill>
          <a:blip r:embed="rId1"/>
          <a:stretch/>
        </p:blipFill>
        <p:spPr>
          <a:xfrm>
            <a:off x="1219320" y="3733920"/>
            <a:ext cx="6629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тр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а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рта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последица по организам или са последицама по организа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а телесна оштећења или мања оштећења здр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е супстан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447560"/>
            <a:ext cx="7543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или групе супстанци које су токсичне, перзистентне и имају тенденцију биоакумулације или на други начин доприносе нивоу забринутости називају с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ним супстанца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ОЛОВОМ-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АМ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76320" y="-1825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вни су оловна пара, дим и пра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 уноса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халација 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јважнији пут уноса у професионалној токсикологиј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ест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кут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ВОРИ ЕКСПОЗИЦ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ловни бензин, пестициди, антикорозивна заштита, топионице руда олова, акумулатори са оловом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мпа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дустриј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МПТОМ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ачка грозни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 са ретикулоцитозом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е колике цревне мускулатур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инеуропатиј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ни руб на десни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ђе 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ом глазуром у к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ем с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 садржај (вино, укисељено поврће и сл.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елин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ањ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зур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ста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ловн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конзумент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ава разв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овањ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астроинтестинални обли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ромускулар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нцефалопатичк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шовит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урнизма</a:t>
            </a:r>
            <a:r>
              <a:rPr b="1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 споје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е живом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ам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и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ал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ин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кологиј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кутан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ум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б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лацентарно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114800" y="121932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мељивачем екотоксикологије се сматра француски научник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haut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909-1994), који је крајем 60-тих година XX века, дефинисао термин екотоксикологије као науке која проучава токсичне ефекте разних агенаса на живе организме,а нарочито на популације и заједнице унутар еко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81640" cy="4610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85800" y="5943600"/>
            <a:ext cx="2814480" cy="785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R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Truha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9 –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координациј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особност нормалног ход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љена моћ интелектуалног схватањ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емоцијама и расположењ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чула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х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, укус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рганским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Орофарингеални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аливациј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нгив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адање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Неуропсихички синдром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еничк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и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меркиза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ецифич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н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ет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улмонал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стицијск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умон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тис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иол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ефротоксичн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манифестације</a:t>
            </a:r>
            <a:r>
              <a:rPr b="1" lang="en-GB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ски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М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в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ђ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ијер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 се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еђу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ј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гу што даје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у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кс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н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јеви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матитис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лминантним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тичним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nekrotizirajuci dermatitis"/>
          <p:cNvPicPr/>
          <p:nvPr/>
        </p:nvPicPr>
        <p:blipFill>
          <a:blip r:embed="rId1"/>
          <a:stretch/>
        </p:blipFill>
        <p:spPr>
          <a:xfrm>
            <a:off x="5486400" y="1676520"/>
            <a:ext cx="327672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ринк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јни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7" descr="Bronchial_Pneumonia550_ab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ентног период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ојав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е дистроф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7" descr="atrofija flava hepatis"/>
          <p:cNvPicPr/>
          <p:nvPr/>
        </p:nvPicPr>
        <p:blipFill>
          <a:blip r:embed="rId1"/>
          <a:stretch/>
        </p:blipFill>
        <p:spPr>
          <a:xfrm>
            <a:off x="5791320" y="1905120"/>
            <a:ext cx="3047760" cy="3527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3200400" y="914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цим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228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ијск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а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R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пија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уризма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спитализа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тамин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гестио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в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с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рти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до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 ДЕЈСТ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КР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360" y="184428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АР У ВОДИ ЗА ПИ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арција бакра у води за пиће варира као последица корозије водоводних цеви. Нивои у текућој и потпуно  пречишћеној води су углавном ниски, док су у стајаћим водама, као и у узорцима делимично пречишћене воде већи,често и прек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екотоксик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лавна подручја која чине суштину екотоксикологије су екологија и токсикологиј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ука која се бави односом између живих бића и животне средине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сикологиј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ат. toxicum= отров;  Гр.  toxicon (toxicоn )= “стрелни отров Гр. logоs = реч,говор,разум...наука. Токсикологија је наука која се бави проучавањем ефеката токсичних материја на организ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629400" y="350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Е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Untitled4.png"/>
          <p:cNvPicPr/>
          <p:nvPr/>
        </p:nvPicPr>
        <p:blipFill>
          <a:blip r:embed="rId1"/>
          <a:stretch/>
        </p:blipFill>
        <p:spPr>
          <a:xfrm>
            <a:off x="5943600" y="4114800"/>
            <a:ext cx="277164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Untitled7.png"/>
          <p:cNvPicPr/>
          <p:nvPr/>
        </p:nvPicPr>
        <p:blipFill>
          <a:blip r:embed="rId2"/>
          <a:stretch/>
        </p:blipFill>
        <p:spPr>
          <a:xfrm>
            <a:off x="5943600" y="1371600"/>
            <a:ext cx="2819520" cy="2190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6548040" y="632448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Токсиколог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3640" y="456840"/>
            <a:ext cx="77770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ТИЦИДИ НА БАЗИ БАК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љопривреди, за запрашивање биљака против корова,инсеката,гљиви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доказано да бакар представља озбиљну индустријску опасност,било од акутног или хроничног тровања,али  се зна да удисање пара бакарних соли,доводи до иритације и атрофије носне слузниц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09480" y="990360"/>
            <a:ext cx="808848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ОФЕСИОНАЛНА ЕКСПОЗИЦИЈА БАК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 топионица бакра су дуготрајно изложени пар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ашини које садрже високе концентрације бакра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се након дуготрајне експозиције испољава синдром сличан грипу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траје пар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Bakarni-sjaj-u-domu.jpg"/>
          <p:cNvPicPr/>
          <p:nvPr/>
        </p:nvPicPr>
        <p:blipFill>
          <a:blip r:embed="rId1"/>
          <a:stretch/>
        </p:blipFill>
        <p:spPr>
          <a:xfrm>
            <a:off x="1676520" y="3505320"/>
            <a:ext cx="3770280" cy="2743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23640" y="380880"/>
            <a:ext cx="767700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АКАР  У ВАЗДУХУ,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ЉИ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У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бакра у ваздуху су ниске,тако да је изложеност респираторних органа бакру,практично занемарљи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о су особе које станују у близини топионица бакра,изложене високим концентрацијама бак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44704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И ЗНАЦИ ТРОВАЊА БАКРОМ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560" y="1752480"/>
            <a:ext cx="83818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 акутног тровања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бол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маку,мучнину,повраћање,хематемезу,мелену,дијареју,жутиц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ежим случајевима може се испољити хипотензија,кома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па се чак може и летално завршит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ном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иритација и атрофија носне слузнице, надражајни кашаљ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i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и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рвенило,праћено сврабом,печењем,а некада кожа буде пребојена зеленом бојом.</a:t>
            </a: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тегобе се јављају и вртоглавица и главобоља,као знаци интоксикације централног нервног систем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за плућа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професионално обољење из групе пнеумокониоза,које настаје услед удисања и нагомилавања честица силицијум-диоксид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ућим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више облика силицијум-диоксида, а најраспрострањенији у природи је кварц који се налази у многим стенама, песку и он изазива најчешће силикотичке про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силикозе обољевају радници у рудницима (рударска болест),каменоломима, у индустрији где се копа и прерађује (камени угаљ,гранит, камени  песак злато,бакар,калај), у фабрикама где се сече, гравира и полира камен, као и у фабрикама стакла и керамике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плућима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силицијум-диоксида(страно тело) у плућима изазива реакцију околног ткива у виду накупљања везива и стварања чворића око ових чест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очетку су ови чворићи величине 1-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растом се долази до колагенизације и хијалинизације њихове средине, те се суседни чворићи стапају у веће чворо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ремети нормалан крвоток и лимфоток у плућима па долази до настанка компликација  (бронхиектазија,емфизема плућа, оптерећења десног ср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јалини чворови такође показују тенденцију стварања каверни што представља подлогу за раст Кохових бацила,тако да је туберкулоза честа компликација силикозе. Поменуте промене у плућима се често компликују запаљењем плеуре (присутан је ексудат) са каснијим оптерећењем дес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првих симптома и знакова болести зависи од  дужине  експозиције, као и од узраста радника и стања ретикулоендотел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за испољавање силикозе потребно 3-5 година,међутим постоје и случајеви где се силикоза јавља и раниј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в каша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зразитије замар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пне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езање у груд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шаљ са искашљавањем лепљивог испљувка у коме има честиц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 и друге нау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5" descr=""/>
          <p:cNvPicPr/>
          <p:nvPr/>
        </p:nvPicPr>
        <p:blipFill>
          <a:blip r:embed="rId1"/>
          <a:stretch/>
        </p:blipFill>
        <p:spPr>
          <a:xfrm>
            <a:off x="755640" y="2041560"/>
            <a:ext cx="7480440" cy="4103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838080" y="13716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знања других 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тадију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ремећај вентилације плућа са поремећајем механике дисањ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наци емфизема (бачваст грудни кош,проширени међуребарни простори,хиперсонарност)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слабљено дисање,са бронхогеним шушњевима и визингом,ређе продужен експирију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B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рчана радња убрзана,тонови тих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ју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хексија, узнемиреност, замарање при најмањем напо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прекидан кашаљ, знаци хроничног плућног ср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и лечење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је превенирати ово обољење, применом општих и индивидуалних  заштитиних мера које се спроводе у циљу спречавања стварања и удисања праши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 мере заштите: адекватна вентилација,чишћење радних просторија, одређивање процента заступљености силицијум диоксида у ваздух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не мере заштите: маске, филтрирајући респират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вне лекарске контроле, скраћење радног дана и дужи одмор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 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томатск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и бронхитис,превенирати настанак туберкулоз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а радом, у случају да се болест открије у првом стадијуму, не доводи увек до престанка прогредирања обољ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откривена у другом или трећем стадијуму или ако је удружена са туберкулозом прогноза је неповољ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ција од штетних супстанци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оксичн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матиз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ај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ђа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д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r>
              <a:rPr b="1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лњ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ањ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х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иј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иц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ћ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љач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оча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ћ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мира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ре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а екотоксик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14040"/>
            <a:ext cx="5410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и екотоксиколошки подаци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ни су з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у лептира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ton betular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ј половини 19. век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49.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нађен је црн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јетет лептира назван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aria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љен великом количином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ђи из фабрик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друге половине 19. века, учесталост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ла с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ико повећа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ријете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Carbonaria"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влад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ебно у индустријском загађеном подручју Манчестер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943600" y="10666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3048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ТОКСИКОЛОГИЈЕ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066680"/>
            <a:ext cx="5943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 оштећење животне средин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видентирал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истраживачи 1962. годи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hel Carson 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лежил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ве негативне ефекте DDT-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хлор-дифенил-трихлоретан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локалну флору и фауну у Мериленд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. написа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Тихо пролеће" у којој је детаљно описала штетне учинке DDT-а и сличних пестицида на људско здравље и приро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њига је стекла велику популарност и убрзо након њене смрти власти САД су забраниле употребу DDT-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File:Rachel-Cars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219320"/>
            <a:ext cx="2590920" cy="327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6553080" y="4800600"/>
            <a:ext cx="259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  <a:ea typeface="Tahoma"/>
              </a:rPr>
              <a:t>RACHEL CA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  <a:ea typeface="Tahoma"/>
              </a:rPr>
              <a:t>(1907 – 196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9:03:08Z</dcterms:created>
  <dc:creator>Maja</dc:creator>
  <dc:description/>
  <dc:language>en-US</dc:language>
  <cp:lastModifiedBy>Maja</cp:lastModifiedBy>
  <dcterms:modified xsi:type="dcterms:W3CDTF">2020-09-28T11:51:08Z</dcterms:modified>
  <cp:revision>370</cp:revision>
  <dc:subject/>
  <dc:title>Универзитет у Крагујевцу Факултет медицинских наука</dc:title>
</cp:coreProperties>
</file>